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92E-E26D-44A2-A902-930D2C47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ADE-5A82-49AF-98A7-736DE419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0E5-BBAD-474E-AB05-D95FC0F0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558-E6F5-410D-A3BD-9C5D5661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E24F-9BBF-41DA-A712-13971E8A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A55C-2691-42E2-A73D-C1F6D3B6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1B9C-3B40-4590-9607-0CAC6B82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65D0-78D7-4A8C-9753-28093423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753C-F582-4045-87BB-A8058A14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7944-5714-4D54-B4CB-43782833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9F28-9AC5-442A-B24C-8E850E5D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889-9933-439D-BC7F-B4513967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1C3A-EE6C-4C06-9E1F-8FAC5B85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C86C-6C15-48E8-9D06-6DF9738A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33EE-B2E4-4CB2-BF60-FDD642BB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22A2-0D4E-4490-8D09-326B3A1C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F6C9-2EF0-40C8-9CB0-B293CFBD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41807-465C-4407-9CA5-466B00F7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B6852-1188-40EC-9601-50BFE574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46E79-8A4B-4038-9007-BC652A95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F3CF-9420-4725-8E25-A5CFB420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F579-7CA1-49CE-8E0A-B7220710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84E-7B3C-4879-91F0-4064C88B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6EBB-DB6C-4613-BAA3-266DCDD4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EB38-BCB6-4D5B-B1FF-94A5301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E28E-BD1F-4485-A528-E3427F15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BD2FC-0180-4F86-95D3-8D55233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9E62-CE33-4BB5-AC71-E30323B6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01610-8CB8-4416-9015-D6E77272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D77D-154E-480A-A075-F59477A7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A5DE4-B894-48D8-BEB7-23E8E875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E872A-AF34-400F-9746-A70BEC19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A5F8E-6676-4F41-97C8-738123F2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35E-4F5A-424F-8706-0B049540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81D7-3C23-4304-960A-842A1353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983AC-C6A9-4865-A8CB-1ED3C1AD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D664E-F699-442D-97B1-E56DD9C2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5DF7A-F454-4905-928B-BC927EC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843A5-8F33-4399-B88F-435221D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B1CD8-E6EE-4B37-B79F-32EF5C74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53C29-5733-449B-8260-6012B754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F961A-6D72-4A63-BD9A-165D19D0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D1ED3-8781-4FA8-9E03-D5334973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7A0-018B-4373-A1F7-94A9B27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66D-691E-482C-AFA0-34DF4860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E2D-0519-4E29-B6B9-F81AD75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A4C-6507-4AAA-9D21-2B113610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FFB-453D-4461-AE40-F16D3539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C21A-5CBF-447D-ACDE-62D0A485FCC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A577-BCC8-4407-963F-AFCC64843B3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FC96-A8A7-4ECE-AC1E-70E10731091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4553-E3DA-4580-916D-B89188BD73E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6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By caleb trussell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Australian Sunrise"/>
              </a:rPr>
              <a:t>Companies/cost /sh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IFC capital trust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annie Mae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Wal-mart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Lexmark international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icrosoft corp.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irius xm radio in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Dell in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pple in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anks of Ame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Georgia gulf corp.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3.33/ 300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.10/909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51.71/19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7.15/58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23.67/4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.68/1470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4.55/68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66.33/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7.39/57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32.79/30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Australian Sunrise"/>
              </a:rPr>
              <a:t>Money spent on each sh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IFC capital trust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Fannie MAE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Wal-mart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Lexmark international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Microsoft corp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Sirius xm radio inc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Dell inc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Apple inc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Bank of America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Georgia gulf corp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7960" y="1920600"/>
            <a:ext cx="38098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99.9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10005.6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10031.74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98.45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88.74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99.4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1001047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79.8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99.25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68.16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Australian Sunrise"/>
              </a:rPr>
              <a:t>what I sold my shares for/5 trades/sol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IFC capital trust 27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Fannie Mae  1.6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Wal-mart 50.38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Lexmark international21.2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Microsoft corp. 25.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irius xm radio inc 6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pple inc 173.7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Bank of America 16.9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Georgia gulf corp. 29.0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E bay 23.81/23.8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Coach inc 31.85/32.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New market 88.65/93.9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Medivation 27.06/27.06 aeropostale inc 42.69/43.5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Australian Sunrise"/>
              </a:rPr>
              <a:t>Capital gain/or l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E bay -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Coach inc .5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New market 5.28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Medivation 1.39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Aeropostale inc .88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IFC capital trust -.6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Wal-mart -1.3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Sirius xm radio -.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Bank of America -.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Georgia gulf corp.-3.76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            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TOTAL=1.62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Capital gai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Rectangle 5" descr=""/>
          <p:cNvPicPr/>
          <p:nvPr/>
        </p:nvPicPr>
        <p:blipFill>
          <a:blip r:embed="rId1"/>
          <a:stretch/>
        </p:blipFill>
        <p:spPr>
          <a:xfrm>
            <a:off x="1365120" y="2530440"/>
            <a:ext cx="5883480" cy="1139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roberts2\AppData\Local\Microsoft\Windows\Temporary Internet Files\Content.IE5\3USGQSA4\MPj04422940000[1].jpg"/>
          <p:cNvPicPr/>
          <p:nvPr/>
        </p:nvPicPr>
        <p:blipFill>
          <a:blip r:embed="rId2"/>
          <a:stretch/>
        </p:blipFill>
        <p:spPr>
          <a:xfrm>
            <a:off x="509760" y="3429000"/>
            <a:ext cx="8024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2:42:27Z</dcterms:created>
  <dc:creator>roberts2</dc:creator>
  <dc:description/>
  <dc:language>en-US</dc:language>
  <cp:lastModifiedBy>roberts2</cp:lastModifiedBy>
  <dcterms:modified xsi:type="dcterms:W3CDTF">2009-09-24T23:53:29Z</dcterms:modified>
  <cp:revision>8</cp:revision>
  <dc:subject/>
  <dc:title>Slide 1</dc:title>
</cp:coreProperties>
</file>